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3E295-D5DB-4522-BC6C-2E8D96FC2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C53A1-DC4B-4392-94EE-71C51FF7E8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531F1-19A7-4E01-8463-10CC805FF7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BB886-7C6E-405D-AABC-9D04984B7C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3D0D4-5E51-41CA-96B3-782302F89C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38747-7AAB-487C-9023-DBB89B4859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165-36DF-4D9E-BAF7-9E7FF6C8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E234-41E8-4E47-AD15-2203E269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D867-9AAE-4290-B069-922CF0E9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8E6-EBA3-4CD3-B728-CD85936C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98C-FE03-4F3E-AD9C-F171FE6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D4A-1880-4C55-9C75-027786D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2CF-75E5-44B4-9D7B-938FE280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772-9233-493E-B59C-FF189EBC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D44-3784-4F30-B920-DB58D6E0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CE0-F3F6-49DD-8494-38B7EBF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EB16-4C12-46E5-9DC5-36ACB94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101-B7DA-4251-9EFF-2D90DD7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3C73E-BA23-4773-94CE-4A64C0950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676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Наставна единица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a6a6a6"/>
                </a:solidFill>
                <a:latin typeface="Calibri"/>
              </a:rPr>
              <a:t>Отворање и вовед во курс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724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4000" spc="-1" strike="noStrike">
                <a:solidFill>
                  <a:srgbClr val="000000"/>
                </a:solidFill>
                <a:latin typeface="Calibri"/>
              </a:rPr>
              <a:t>Обука за органите за спроведување на законот како дел од првата екипа на местото на настан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48"/>
          <p:cNvSpPr/>
          <p:nvPr/>
        </p:nvSpPr>
        <p:spPr>
          <a:xfrm>
            <a:off x="3144960" y="30258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ВОВ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4822920"/>
            <a:ext cx="271620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Кршење на мразот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906560" y="1577880"/>
            <a:ext cx="51656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Вов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1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аправете пар со лице кое не го познават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Во рок од 10 минути дознајте ги следниве информации, кои потоа ќе ни ги кажет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ко се вика и од која земја 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Каде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Што рабо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говото искуство како обучув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Нешто интересно за нег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Одговори на „тестот за познавање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0F9BF-4F2E-427A-87C4-ACF266E37A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Корисник на ком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2 = Може да го вклучи компјутер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3 = Пишува на тастатура со две ра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4 = Видел внатрешност на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5 = Надград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6 = Солиден корисник на софтверски пак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7 = Склопил компјут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8 = Направил и користел макро кома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9 = Поврзал 2 компјутера во мреж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10 = Систем администратор, програмер  и дизајнер на Microsoft произво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ње за компјутерски кримин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 = Целосен почет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2 = Вид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3 = Работи во форензичко од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4 = Користел форензички софтв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5 = Спровел истрага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6 = Дал исказ во врска со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7 = Сведочел во суд за електронски докази/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8 = Напишал програма или код како помош за истрага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9 = Напишал сопствен софтверски пакет за форензичка анали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1800" spc="-1" strike="noStrike">
                <a:solidFill>
                  <a:srgbClr val="000000"/>
                </a:solidFill>
                <a:latin typeface="Calibri"/>
              </a:rPr>
              <a:t>10 = Програмирал форензички софтвер за одреден снабдувач, има факултетска диплома во област поврзана со истрага на компјутерски криминал и е гуру за компјутерски кримин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4592520"/>
            <a:ext cx="3279600" cy="21830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Цели на курсот за об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2 Вовед во начелата и постапките за електронски доказ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разговараат за содржината на Прирачникот за електронски докази на Советот на Европ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идентификуваат начелата за постапување со електронски доказ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Да ги објаснат посебните карактеристики на електронските докази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1.3 и 1.1.4 Извори на доказ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утврдат кои извори на докази имаат доказна вредност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направат разлика меѓу компјутерските мреж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мрежните уред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потенцијалните докази и извори на докази на интерн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елотворно да ги завршат подготовката и планирањето на претресот и заплената на електронски дока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овластувањата и одобрувањата во постапката за претрес и заплена на електронски доказ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улогата на надворешните специјализирани вешти лиц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1 и 1.3.1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Дневни прегледи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ите единици,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опфатени со активностите од претходниот ден кои слушателите ги разбра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ги идентификуваат областите за кои слушателите треба уште еднаш да го поминат материјалот за да го постигнат потребното ниво на зна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2 Претрес и заплен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</a:t>
            </a: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о објаснат соодветното планирање и подготовка на упад заради претрес на место каде може да се најдат електронски доказ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алатките и алатките кои може да се потребни за претрес на место каде може да се најдат електронски доказ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о да се обезбеди и документира местото на кривичниот настан каде се појавуваат електронски докази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дравје и безбед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3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Излези во итни состој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Аларм за пож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Тоал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уш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Мобилни телефони и пејџ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600" spc="-1" strike="noStrike">
                <a:solidFill>
                  <a:srgbClr val="000000"/>
                </a:solidFill>
                <a:latin typeface="Calibri"/>
              </a:rPr>
              <a:t>Паузи за кафе и ру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76880" y="1339920"/>
            <a:ext cx="22608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1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врз основа на покажаните ситу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опишат стандардните оперативни постапки (СОП) за пакување, пренос и складирање на електронските дока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направат разлика меѓу СОП врз основа на видот на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разговараат за техниките за проверка дали компјутерскиот систем е вклучен или исклуч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500" spc="-1" strike="noStrike">
                <a:solidFill>
                  <a:srgbClr val="000000"/>
                </a:solidFill>
                <a:latin typeface="Calibri"/>
              </a:rPr>
              <a:t>Да ги применат општите упатства за заплена на електронски уред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2.3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Претрес и заплена - Дел 2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38040"/>
            <a:ext cx="8229600" cy="50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прават разлика меѓу ситуација со уреди на местото на настанот и ситуација на проток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дефинираат ги термините „нестабилни податоци“, „преодни податоци“ и „форензичка анализа на живи податоци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ја објаснат вредноста на нестабилните податоци за истрагит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наведат барем четири вида на податоци кои би се изгубиле без форензичка анализа на живи подато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роведат мерки за првична реакција кога се соочуваат со компјутерски систем кој е во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и опишат предизвиците на шифрирањето и можностите на форензичката анализа на живи податоци во ситуација во која има шифр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разговараат за предизвиците на различните правни рамки во ситуацијата во која податоците се чуваат на далечински локации, на пример компјутерско работење во обл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го дефинираат терминот „компјутерско работење во облак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000" spc="-1" strike="noStrike">
                <a:solidFill>
                  <a:srgbClr val="000000"/>
                </a:solidFill>
                <a:latin typeface="Calibri"/>
              </a:rPr>
              <a:t>Да споредат барем три вида на услуги на компјутерско работење во облак</a:t>
            </a:r>
            <a:r>
              <a:rPr b="0" lang="mk-MK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mk-MK" sz="3800" spc="-1" strike="noStrike">
                <a:solidFill>
                  <a:srgbClr val="000000"/>
                </a:solidFill>
                <a:latin typeface="Calibri"/>
              </a:rPr>
              <a:t>1.3.2 и 1.3.3 Кратки упатства за претрес и заплена и практични вежби </a:t>
            </a:r>
            <a:br>
              <a:rPr sz="3800"/>
            </a:br>
            <a:br>
              <a:rPr sz="4000"/>
            </a:br>
            <a:br>
              <a:rPr sz="40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оперативен план з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спроведат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остапуваат со електронски доказ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о документираат и обезбедат местото на претрес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идентификуваат изворите на електронски доказ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список на запленетите предме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состават извештај во зависност од претрес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, слушателите ќе можа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ја завршила фазата на подготовка и планирање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претстават како групата постапувала со осомниченото лице доколку тоа било присутно на местото на настан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ја претстават и објаснат постапката за претрес и запл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ги претстават запленетите предмети релевантни за случај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Да објаснат како било постапувано со предметите</a:t>
            </a:r>
            <a:r>
              <a:rPr b="0" lang="mk-MK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000" spc="-1" strike="noStrike">
                <a:solidFill>
                  <a:srgbClr val="000000"/>
                </a:solidFill>
                <a:latin typeface="Calibri"/>
              </a:rPr>
              <a:t>1.3.4 Претрес и заплена - Повратни информации по практичната вежб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1.3.5 Завршување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0664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дадат соодветни повратни информации за курсот и неговата делотворнос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пополнат формуларите за оценка на курс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прашањата кои треба да се доработат со цел курсот да се предава на национално ни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300" spc="-1" strike="noStrike">
                <a:solidFill>
                  <a:srgbClr val="000000"/>
                </a:solidFill>
                <a:latin typeface="Calibri"/>
              </a:rPr>
              <a:t>Да ги опишат активностите кои треба да се преземат после курсот со цел материјалите од курсот да се подготват за настава на национално нив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о идентификуваат следното ниво на знаење кое слушателите треба да го совладаат за да ги подобрат нивните познавања и вештини за предметната 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2828880" y="457200"/>
            <a:ext cx="3673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2828880" y="873000"/>
            <a:ext cx="3668760" cy="5551560"/>
          </a:xfrm>
          <a:custGeom>
            <a:avLst/>
            <a:gdLst>
              <a:gd name="textAreaLeft" fmla="*/ 26280 w 3668760"/>
              <a:gd name="textAreaRight" fmla="*/ 3642480 w 3668760"/>
              <a:gd name="textAreaTop" fmla="*/ 26280 h 5551560"/>
              <a:gd name="textAreaBottom" fmla="*/ 5525280 h 5551560"/>
            </a:gdLst>
            <a:ahLst/>
            <a:rect l="textAreaLeft" t="textAreaTop" r="textAreaRight" b="textAreaBottom"/>
            <a:pathLst>
              <a:path w="21600" h="32684">
                <a:moveTo>
                  <a:pt x="532" y="0"/>
                </a:moveTo>
                <a:arcTo wR="532" hR="532" stAng="16200000" swAng="-5400000"/>
                <a:lnTo>
                  <a:pt x="0" y="32152"/>
                </a:lnTo>
                <a:arcTo wR="532" hR="532" stAng="10800000" swAng="-5400000"/>
                <a:lnTo>
                  <a:pt x="21068" y="32684"/>
                </a:lnTo>
                <a:arcTo wR="532" hR="532" stAng="5400000" swAng="-5400000"/>
                <a:lnTo>
                  <a:pt x="21600" y="532"/>
                </a:lnTo>
                <a:arcTo wR="532" hR="532" stAng="0" swAng="-5400000"/>
                <a:close/>
              </a:path>
            </a:pathLst>
          </a:cu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922480" y="873000"/>
            <a:ext cx="3513240" cy="5494320"/>
          </a:xfrm>
          <a:custGeom>
            <a:avLst/>
            <a:gdLst>
              <a:gd name="textAreaLeft" fmla="*/ 25560 w 3513240"/>
              <a:gd name="textAreaRight" fmla="*/ 3487680 w 3513240"/>
              <a:gd name="textAreaTop" fmla="*/ 25560 h 5494320"/>
              <a:gd name="textAreaBottom" fmla="*/ 5468760 h 5494320"/>
            </a:gdLst>
            <a:ahLst/>
            <a:rect l="textAreaLeft" t="textAreaTop" r="textAreaRight" b="textAreaBottom"/>
            <a:pathLst>
              <a:path w="21600" h="33779">
                <a:moveTo>
                  <a:pt x="540" y="0"/>
                </a:moveTo>
                <a:arcTo wR="540" hR="540" stAng="16200000" swAng="-5400000"/>
                <a:lnTo>
                  <a:pt x="0" y="33239"/>
                </a:lnTo>
                <a:arcTo wR="540" hR="540" stAng="10800000" swAng="-5400000"/>
                <a:lnTo>
                  <a:pt x="21060" y="33779"/>
                </a:lnTo>
                <a:arcTo wR="540" hR="540" stAng="5400000" swAng="-5400000"/>
                <a:lnTo>
                  <a:pt x="21600" y="540"/>
                </a:lnTo>
                <a:arcTo wR="540" hR="54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922480" y="873000"/>
            <a:ext cx="3506760" cy="185760"/>
          </a:xfrm>
          <a:prstGeom prst="pie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144960" y="1378080"/>
            <a:ext cx="306864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4052880" y="649440"/>
            <a:ext cx="1235160" cy="64440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4064040" y="649440"/>
            <a:ext cx="1209600" cy="644400"/>
          </a:xfrm>
          <a:prstGeom prst="pi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4073400" y="649440"/>
            <a:ext cx="1189080" cy="644400"/>
          </a:xfrm>
          <a:prstGeom prst="pie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4078440" y="649440"/>
            <a:ext cx="1174680" cy="644400"/>
          </a:xfrm>
          <a:prstGeom prst="pi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2"/>
          <p:cNvSpPr/>
          <p:nvPr/>
        </p:nvSpPr>
        <p:spPr>
          <a:xfrm>
            <a:off x="4089240" y="649440"/>
            <a:ext cx="1148040" cy="644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3"/>
          <p:cNvSpPr/>
          <p:nvPr/>
        </p:nvSpPr>
        <p:spPr>
          <a:xfrm>
            <a:off x="4098960" y="649440"/>
            <a:ext cx="1127160" cy="644400"/>
          </a:xfrm>
          <a:prstGeom prst="pie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4"/>
          <p:cNvSpPr/>
          <p:nvPr/>
        </p:nvSpPr>
        <p:spPr>
          <a:xfrm>
            <a:off x="4110120" y="649440"/>
            <a:ext cx="1106280" cy="644400"/>
          </a:xfrm>
          <a:prstGeom prst="pie">
            <a:avLst/>
          </a:prstGeom>
          <a:solidFill>
            <a:srgbClr val="b7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15"/>
          <p:cNvSpPr/>
          <p:nvPr/>
        </p:nvSpPr>
        <p:spPr>
          <a:xfrm>
            <a:off x="4119480" y="649440"/>
            <a:ext cx="1081080" cy="644400"/>
          </a:xfrm>
          <a:prstGeom prst="pi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Oval 16"/>
          <p:cNvSpPr/>
          <p:nvPr/>
        </p:nvSpPr>
        <p:spPr>
          <a:xfrm>
            <a:off x="4119480" y="1030320"/>
            <a:ext cx="15552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119480" y="1035000"/>
            <a:ext cx="15552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4119480" y="1035000"/>
            <a:ext cx="1461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412596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4125960" y="1035000"/>
            <a:ext cx="13500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125960" y="1035000"/>
            <a:ext cx="12852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125960" y="1035000"/>
            <a:ext cx="12384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130640" y="1041480"/>
            <a:ext cx="10944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5091120" y="1030320"/>
            <a:ext cx="162000" cy="17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5091120" y="1035000"/>
            <a:ext cx="150840" cy="162000"/>
          </a:xfrm>
          <a:prstGeom prst="ellipse">
            <a:avLst/>
          </a:prstGeom>
          <a:solidFill>
            <a:srgbClr val="1b1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5097600" y="1035000"/>
            <a:ext cx="144360" cy="157320"/>
          </a:xfrm>
          <a:prstGeom prst="ellipse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5097600" y="1035000"/>
            <a:ext cx="139680" cy="152280"/>
          </a:xfrm>
          <a:prstGeom prst="ellipse">
            <a:avLst/>
          </a:prstGeom>
          <a:solidFill>
            <a:srgbClr val="52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5097600" y="1035000"/>
            <a:ext cx="134640" cy="146160"/>
          </a:xfrm>
          <a:prstGeom prst="ellipse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5102280" y="1035000"/>
            <a:ext cx="119160" cy="141480"/>
          </a:xfrm>
          <a:prstGeom prst="ellipse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30"/>
          <p:cNvSpPr/>
          <p:nvPr/>
        </p:nvSpPr>
        <p:spPr>
          <a:xfrm>
            <a:off x="5102280" y="1035000"/>
            <a:ext cx="119160" cy="13500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31"/>
          <p:cNvSpPr/>
          <p:nvPr/>
        </p:nvSpPr>
        <p:spPr>
          <a:xfrm>
            <a:off x="5102280" y="1041480"/>
            <a:ext cx="114120" cy="117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32"/>
          <p:cNvSpPr/>
          <p:nvPr/>
        </p:nvSpPr>
        <p:spPr>
          <a:xfrm>
            <a:off x="3763800" y="457200"/>
            <a:ext cx="1798920" cy="1020600"/>
          </a:xfrm>
          <a:prstGeom prst="pie">
            <a:avLst/>
          </a:prstGeom>
          <a:solidFill>
            <a:srgbClr val="c0c0c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3"/>
          <p:cNvSpPr/>
          <p:nvPr/>
        </p:nvSpPr>
        <p:spPr>
          <a:xfrm>
            <a:off x="3754440" y="1467000"/>
            <a:ext cx="1822320" cy="68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34"/>
          <p:cNvSpPr/>
          <p:nvPr/>
        </p:nvSpPr>
        <p:spPr>
          <a:xfrm>
            <a:off x="4383000" y="490680"/>
            <a:ext cx="595440" cy="4381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AutoShape 35"/>
          <p:cNvSpPr/>
          <p:nvPr/>
        </p:nvSpPr>
        <p:spPr>
          <a:xfrm>
            <a:off x="4508640" y="631800"/>
            <a:ext cx="355320" cy="4464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36"/>
          <p:cNvSpPr/>
          <p:nvPr/>
        </p:nvSpPr>
        <p:spPr>
          <a:xfrm>
            <a:off x="4508640" y="642960"/>
            <a:ext cx="35532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37"/>
          <p:cNvSpPr/>
          <p:nvPr/>
        </p:nvSpPr>
        <p:spPr>
          <a:xfrm>
            <a:off x="4508640" y="703440"/>
            <a:ext cx="355320" cy="442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4508640" y="714240"/>
            <a:ext cx="355320" cy="3024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39"/>
          <p:cNvSpPr/>
          <p:nvPr/>
        </p:nvSpPr>
        <p:spPr>
          <a:xfrm>
            <a:off x="4508640" y="782640"/>
            <a:ext cx="355320" cy="46080"/>
          </a:xfrm>
          <a:prstGeom prst="roundRect">
            <a:avLst>
              <a:gd name="adj" fmla="val 3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AutoShape 40"/>
          <p:cNvSpPr/>
          <p:nvPr/>
        </p:nvSpPr>
        <p:spPr>
          <a:xfrm>
            <a:off x="4508640" y="793800"/>
            <a:ext cx="355320" cy="3960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AutoShape 41"/>
          <p:cNvSpPr/>
          <p:nvPr/>
        </p:nvSpPr>
        <p:spPr>
          <a:xfrm>
            <a:off x="4435560" y="861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2"/>
          <p:cNvSpPr/>
          <p:nvPr/>
        </p:nvSpPr>
        <p:spPr>
          <a:xfrm>
            <a:off x="4435560" y="873000"/>
            <a:ext cx="495360" cy="39960"/>
          </a:xfrm>
          <a:prstGeom prst="roundRect">
            <a:avLst>
              <a:gd name="adj" fmla="val 35713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3"/>
          <p:cNvSpPr/>
          <p:nvPr/>
        </p:nvSpPr>
        <p:spPr>
          <a:xfrm>
            <a:off x="4435560" y="950760"/>
            <a:ext cx="495360" cy="39960"/>
          </a:xfrm>
          <a:prstGeom prst="roundRect">
            <a:avLst>
              <a:gd name="adj" fmla="val 42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4"/>
          <p:cNvSpPr/>
          <p:nvPr/>
        </p:nvSpPr>
        <p:spPr>
          <a:xfrm>
            <a:off x="4435560" y="963720"/>
            <a:ext cx="495360" cy="27000"/>
          </a:xfrm>
          <a:prstGeom prst="roundRect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5"/>
          <p:cNvSpPr/>
          <p:nvPr/>
        </p:nvSpPr>
        <p:spPr>
          <a:xfrm>
            <a:off x="4435560" y="1023840"/>
            <a:ext cx="495360" cy="44640"/>
          </a:xfrm>
          <a:prstGeom prst="roundRect">
            <a:avLst>
              <a:gd name="adj" fmla="val 37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6"/>
          <p:cNvSpPr/>
          <p:nvPr/>
        </p:nvSpPr>
        <p:spPr>
          <a:xfrm>
            <a:off x="4435560" y="1035000"/>
            <a:ext cx="495360" cy="33480"/>
          </a:xfrm>
          <a:prstGeom prst="roundRect">
            <a:avLst>
              <a:gd name="adj" fmla="val 41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200" spc="-1" strike="noStrike">
                <a:solidFill>
                  <a:srgbClr val="122031"/>
                </a:solidFill>
                <a:latin typeface="Calibri"/>
              </a:rPr>
              <a:t>КРАТОК 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По предавањето на оваа наставна единица слушателите ќе можа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6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Преглед на целите на наставните един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0" y="5181480"/>
            <a:ext cx="23940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Историјат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Насловот на овој курс е „Обука за органите за спроведување на законот како дел од првата екипа на местото на настанот“. Тој е подготвен како резултат на заедничкиот проект на Советот на Европа и Европската унија за регионална соработка против компјутерски криминал во регионот опфатен со ИП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наставната еди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информираат слушателите за потребата од курсот за обука, како и за неговата цел и резулта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обезбеди дека ќе добијат доволно информации за програмата на активности и распоредо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Да се запознаат слушателите за здравствените, безбедносните и административните податоци за курс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Меѓусебно запознавање на слушателите и запознавање со обучувачите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556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235160"/>
            <a:ext cx="794232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По предавањето на наставната единица слушателите ќе можа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идентификуваат обучувачите и слушате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разговараат за вкупната цел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објаснат каква е потребата за ваков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главните елементи на распоредот и активностите во текот н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Calibri"/>
              </a:rPr>
              <a:t>Да ги наведат постапките за заштита на здравјето и безбедноста во просториите каде се одржува курсо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12600">
              <a:spcBef>
                <a:spcPts val="601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Очекувани резулт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5546880"/>
            <a:ext cx="1844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Зошто е потребен ваквиот курс за обу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4092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Електронските докази се дел од скоро секој вид на кривична истрага. Улогата на првите тимови е од суштинска важност за препознавање и постапување со ваков вид на докази, на начин со кој доказите остануваат допуштени во постапките во рамките на кривично-правниот систем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Советот на Европа издаде Прирачник за добри практики во однос на електронски докази, давајќи им така поддршка на земјите во дефинирањето на нивните практики и постапки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Овој курс за обука има за цел на земјите да им помогне да дефинираат обука релевантна за првите тимови на местото на настанот во контекстот на електронски доказ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4400" spc="-1" strike="noStrike">
                <a:solidFill>
                  <a:srgbClr val="000000"/>
                </a:solidFill>
                <a:latin typeface="Calibri"/>
              </a:rPr>
              <a:t>Цел на курс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2508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Calibri"/>
              </a:rPr>
              <a:t>Целта на овој курс е да им понуди познавања и вештини на првите тимови од органите за спроведување на законот кои ќе им овозможат да ги препознаат и да постапуваат со електронските докази на начин со кој електронските докази се зачувуваат за идно испитување, истовремено зачувувајќи го интегритетот односно целовитоста на истите.  Курсот за обука нуди практични, но и информации за процедуралните аспекти во однос на предметните прашања и главно се однесуваат на тоа како овие прашања влијаат на секојдневната работа на органите.</a:t>
            </a:r>
            <a:r>
              <a:rPr b="0" lang="mk-MK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3600" spc="-1" strike="noStrike">
                <a:solidFill>
                  <a:srgbClr val="000000"/>
                </a:solidFill>
                <a:latin typeface="Calibri"/>
              </a:rPr>
              <a:t>Распоред за курсот на првите ти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193680" y="308124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-1062000" y="173160"/>
            <a:ext cx="4321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 1" descr="COE.png"/>
          <p:cNvPicPr/>
          <p:nvPr/>
        </p:nvPicPr>
        <p:blipFill>
          <a:blip r:embed="rId1"/>
          <a:stretch/>
        </p:blipFill>
        <p:spPr>
          <a:xfrm>
            <a:off x="193680" y="1144440"/>
            <a:ext cx="320976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66600" y="898560"/>
          <a:ext cx="8894880" cy="7002360"/>
        </p:xfrm>
        <a:graphic>
          <a:graphicData uri="http://schemas.openxmlformats.org/drawingml/2006/table">
            <a:tbl>
              <a:tblPr/>
              <a:tblGrid>
                <a:gridCol w="1134360"/>
                <a:gridCol w="1296360"/>
                <a:gridCol w="181800"/>
                <a:gridCol w="181440"/>
                <a:gridCol w="181440"/>
                <a:gridCol w="181440"/>
                <a:gridCol w="1795680"/>
                <a:gridCol w="216000"/>
                <a:gridCol w="181440"/>
                <a:gridCol w="871200"/>
                <a:gridCol w="1208160"/>
                <a:gridCol w="181440"/>
                <a:gridCol w="181440"/>
                <a:gridCol w="181440"/>
                <a:gridCol w="181800"/>
                <a:gridCol w="527760"/>
                <a:gridCol w="216000"/>
              </a:tblGrid>
              <a:tr h="810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т на Евро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за органите за спроведување на законот како дел од првата екипа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:00 - 10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:00 -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-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:00 - 13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:00 - 14: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:00 - 15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:00 - 16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:00 - 17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орање на курсот и запознавањ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ед во начелата и постапките за електронски доказ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систе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јутерски мреж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вори на доказ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ази од интернет, овластувања и дозволи, подготовка и планирање, надворешни специјализирани вешти ли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 учествува и што треба да се зем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дување на местото на настан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ирање на место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анализа на уреди од самото место на настан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ситуација на проток на живи информ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ен преглед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и упатства за тимовит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УЗ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на вежб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трес и заплена </a:t>
                      </a:r>
                      <a:r>
                        <a:rPr b="0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за вежб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mk-M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атни информации од слушателите и од обучувачите затворање на курсот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3074760" y="450072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mk-MK" sz="5400" spc="-1" strike="noStrike">
                <a:solidFill>
                  <a:srgbClr val="000000"/>
                </a:solidFill>
                <a:latin typeface="Calibri"/>
              </a:rPr>
              <a:t>Прашањ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Daniela</cp:lastModifiedBy>
  <cp:lastPrinted>2012-02-06T12:03:55Z</cp:lastPrinted>
  <dcterms:modified xsi:type="dcterms:W3CDTF">2013-07-24T23:24:16Z</dcterms:modified>
  <cp:revision>50</cp:revision>
  <dc:subject/>
  <dc:title>Introductory Cybercrime Training for Judges and Prosecutors</dc:title>
</cp:coreProperties>
</file>